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D161-1BC8-4940-9914-3C50567F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C3F9-A6B6-41F7-A7F5-6F408DE3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1E97-9B59-4A05-B3A0-A95CE0B6E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E6BE-FC2E-4218-978D-F2F4FC0C8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2C7D-459F-4BC3-9A99-5CD58788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05D4-1FCF-4FFB-9D09-E0D06B1D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8059-E2F2-4F32-B6E8-5FFC3C17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0AD3-7F0D-478E-BE86-A6F2E622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4C93-6FB0-4C4C-8B07-6B704FEE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B6CE-5AB5-4505-9594-7D7D5496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547E-B3B5-4AF4-8231-603348FE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4BE4-725D-4418-BD0A-188AB1A0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A891-F407-4A02-A3D8-FA99BD23A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slide" Target="slide52.xml"/><Relationship Id="rId6" Type="http://schemas.openxmlformats.org/officeDocument/2006/relationships/slide" Target="slide53.xml"/><Relationship Id="rId7" Type="http://schemas.openxmlformats.org/officeDocument/2006/relationships/slide" Target="slide54.xml"/><Relationship Id="rId8" Type="http://schemas.openxmlformats.org/officeDocument/2006/relationships/slide" Target="slide55.xml"/><Relationship Id="rId9" Type="http://schemas.openxmlformats.org/officeDocument/2006/relationships/slide" Target="slide56.xml"/><Relationship Id="rId10" Type="http://schemas.openxmlformats.org/officeDocument/2006/relationships/slide" Target="slide57.xml"/><Relationship Id="rId11" Type="http://schemas.openxmlformats.org/officeDocument/2006/relationships/slide" Target="slide58.xml"/><Relationship Id="rId12" Type="http://schemas.openxmlformats.org/officeDocument/2006/relationships/slide" Target="slide59.xml"/><Relationship Id="rId13" Type="http://schemas.openxmlformats.org/officeDocument/2006/relationships/slide" Target="slide60.xml"/><Relationship Id="rId14" Type="http://schemas.openxmlformats.org/officeDocument/2006/relationships/slide" Target="slide61.xml"/><Relationship Id="rId15" Type="http://schemas.openxmlformats.org/officeDocument/2006/relationships/slide" Target="slide62.xml"/><Relationship Id="rId16" Type="http://schemas.openxmlformats.org/officeDocument/2006/relationships/slide" Target="slide63.xml"/><Relationship Id="rId17" Type="http://schemas.openxmlformats.org/officeDocument/2006/relationships/slide" Target="slide64.xml"/><Relationship Id="rId18" Type="http://schemas.openxmlformats.org/officeDocument/2006/relationships/slide" Target="slide65.xml"/><Relationship Id="rId19" Type="http://schemas.openxmlformats.org/officeDocument/2006/relationships/slide" Target="slide66.xml"/><Relationship Id="rId20" Type="http://schemas.openxmlformats.org/officeDocument/2006/relationships/slide" Target="slide67.xml"/><Relationship Id="rId21" Type="http://schemas.openxmlformats.org/officeDocument/2006/relationships/slide" Target="slide68.xml"/><Relationship Id="rId22" Type="http://schemas.openxmlformats.org/officeDocument/2006/relationships/slide" Target="slide69.xml"/><Relationship Id="rId23" Type="http://schemas.openxmlformats.org/officeDocument/2006/relationships/slide" Target="slide70.xml"/><Relationship Id="rId24" Type="http://schemas.openxmlformats.org/officeDocument/2006/relationships/slide" Target="slide71.xml"/><Relationship Id="rId25" Type="http://schemas.openxmlformats.org/officeDocument/2006/relationships/slide" Target="slide72.xml"/><Relationship Id="rId26" Type="http://schemas.openxmlformats.org/officeDocument/2006/relationships/slide" Target="slide73.xml"/><Relationship Id="rId27" Type="http://schemas.openxmlformats.org/officeDocument/2006/relationships/slide" Target="slide74.xml"/><Relationship Id="rId28" Type="http://schemas.openxmlformats.org/officeDocument/2006/relationships/slide" Target="slide75.xml"/><Relationship Id="rId29" Type="http://schemas.openxmlformats.org/officeDocument/2006/relationships/slide" Target="slide76.xml"/><Relationship Id="rId30" Type="http://schemas.openxmlformats.org/officeDocument/2006/relationships/slide" Target="slide77.xml"/><Relationship Id="rId31" Type="http://schemas.openxmlformats.org/officeDocument/2006/relationships/slide" Target="slide78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23.xml"/><Relationship Id="rId17" Type="http://schemas.openxmlformats.org/officeDocument/2006/relationships/slide" Target="slide24.xml"/><Relationship Id="rId18" Type="http://schemas.openxmlformats.org/officeDocument/2006/relationships/slide" Target="slide25.xml"/><Relationship Id="rId19" Type="http://schemas.openxmlformats.org/officeDocument/2006/relationships/slide" Target="slide26.xml"/><Relationship Id="rId20" Type="http://schemas.openxmlformats.org/officeDocument/2006/relationships/slide" Target="slide27.xml"/><Relationship Id="rId21" Type="http://schemas.openxmlformats.org/officeDocument/2006/relationships/slide" Target="slide28.xml"/><Relationship Id="rId22" Type="http://schemas.openxmlformats.org/officeDocument/2006/relationships/slide" Target="slide29.xml"/><Relationship Id="rId23" Type="http://schemas.openxmlformats.org/officeDocument/2006/relationships/slide" Target="slide30.xml"/><Relationship Id="rId24" Type="http://schemas.openxmlformats.org/officeDocument/2006/relationships/slide" Target="slide31.xml"/><Relationship Id="rId25" Type="http://schemas.openxmlformats.org/officeDocument/2006/relationships/slide" Target="slide32.xml"/><Relationship Id="rId26" Type="http://schemas.openxmlformats.org/officeDocument/2006/relationships/slide" Target="slide33.xml"/><Relationship Id="rId27" Type="http://schemas.openxmlformats.org/officeDocument/2006/relationships/slide" Target="slide35.xml"/><Relationship Id="rId28" Type="http://schemas.openxmlformats.org/officeDocument/2006/relationships/slide" Target="slide36.xml"/><Relationship Id="rId29" Type="http://schemas.openxmlformats.org/officeDocument/2006/relationships/slide" Target="slide37.xml"/><Relationship Id="rId30" Type="http://schemas.openxmlformats.org/officeDocument/2006/relationships/slide" Target="slide38.xml"/><Relationship Id="rId31" Type="http://schemas.openxmlformats.org/officeDocument/2006/relationships/slide" Target="slide39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523880" y="2971800"/>
            <a:ext cx="5943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 laine aux pie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838080" y="1295280"/>
            <a:ext cx="75438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 laine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uvre le dos et les br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a les bout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219320" y="2362320"/>
            <a:ext cx="670536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uvre le co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295280" y="2057400"/>
            <a:ext cx="64771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type de blous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 faire du sk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EP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838080" y="1447920"/>
            <a:ext cx="739152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il nei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1219320" y="914400"/>
            <a:ext cx="70866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fem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port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les évenneme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écia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1143000" y="1143000"/>
            <a:ext cx="693432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habitu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quelle matiè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t les chaussure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914400" y="1066680"/>
            <a:ext cx="708660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femmes  ne portent pa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chaussett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x évennements spéciaux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lles portent…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990720" y="1371600"/>
            <a:ext cx="746748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e femme l’utili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porter le portable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ortefeuille, le maquillage, et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066680" y="2590920"/>
            <a:ext cx="69343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il fait froi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tour du cou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’est un peu lo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914400" y="1143000"/>
            <a:ext cx="739152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r la tête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’est très élégant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219320" y="1066680"/>
            <a:ext cx="701028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voi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lle heu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t-il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1447920" y="1828800"/>
            <a:ext cx="65530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qu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antal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 tombe p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523880" y="1676520"/>
            <a:ext cx="60962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nag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1371600" y="1828800"/>
            <a:ext cx="64771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couvri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ye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1219320" y="1066680"/>
            <a:ext cx="670536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type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e-shi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ns manch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1143000" y="1066680"/>
            <a:ext cx="6705720" cy="47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r la tê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voir un mat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baseba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990720" y="1828800"/>
            <a:ext cx="647676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fait les costu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ce tissu en été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Mais il faut faire le repassa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équemment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1066680" y="1066680"/>
            <a:ext cx="723924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e veste et un pantal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 les hom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rt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x pie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066680" y="838080"/>
            <a:ext cx="723924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e ju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une ves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’une femme por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295280" y="1371600"/>
            <a:ext cx="678204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un pantalon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e…. blanc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2"/>
          <p:cNvSpPr txBox="1"/>
          <p:nvPr/>
        </p:nvSpPr>
        <p:spPr>
          <a:xfrm>
            <a:off x="914400" y="990720"/>
            <a:ext cx="723888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hom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por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tour du co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838080" y="1143000"/>
            <a:ext cx="762012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coton  ou de soie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équemment avec les bout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e femme le porte avec une ju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1676520" y="1523880"/>
            <a:ext cx="57150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oo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1371600" y="2514600"/>
            <a:ext cx="57913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l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1371600" y="2895480"/>
            <a:ext cx="57913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n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1295280" y="2438280"/>
            <a:ext cx="624852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at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1905120" y="2743200"/>
            <a:ext cx="5257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e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295280" y="2590920"/>
            <a:ext cx="67057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oir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2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21" name="TADA.WAV" descr=""/>
          <p:cNvPicPr/>
          <p:nvPr/>
        </p:nvPicPr>
        <p:blipFill>
          <a:blip r:embed="rId5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617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182880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djectif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ich on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n opini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motif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sty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1066680" y="1295280"/>
            <a:ext cx="701064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u aime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3049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djectif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hich one?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on opinion?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otf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tyl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WordArt 7"/>
          <p:cNvSpPr txBox="1"/>
          <p:nvPr/>
        </p:nvSpPr>
        <p:spPr>
          <a:xfrm>
            <a:off x="77724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u aimes?.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4"/>
          <p:cNvSpPr/>
          <p:nvPr/>
        </p:nvSpPr>
        <p:spPr>
          <a:xfrm>
            <a:off x="77760" y="57942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5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6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7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8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9"/>
          <p:cNvSpPr/>
          <p:nvPr/>
        </p:nvSpPr>
        <p:spPr>
          <a:xfrm>
            <a:off x="160200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0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1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2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3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4"/>
          <p:cNvSpPr/>
          <p:nvPr/>
        </p:nvSpPr>
        <p:spPr>
          <a:xfrm>
            <a:off x="312588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5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6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7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8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59"/>
          <p:cNvSpPr/>
          <p:nvPr/>
        </p:nvSpPr>
        <p:spPr>
          <a:xfrm>
            <a:off x="46497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0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2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3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61833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5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6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7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8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9"/>
          <p:cNvSpPr/>
          <p:nvPr/>
        </p:nvSpPr>
        <p:spPr>
          <a:xfrm>
            <a:off x="770724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70">
            <a:hlinkClick r:id="rId32" action="ppaction://hlinksldjump"/>
          </p:cNvPr>
          <p:cNvSpPr/>
          <p:nvPr/>
        </p:nvSpPr>
        <p:spPr>
          <a:xfrm>
            <a:off x="8763120" y="6477120"/>
            <a:ext cx="228600" cy="152280"/>
          </a:xfrm>
          <a:custGeom>
            <a:avLst/>
            <a:gdLst>
              <a:gd name="textAreaLeft" fmla="*/ 70560 w 228600"/>
              <a:gd name="textAreaRight" fmla="*/ 158040 w 22860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1066680" y="1447920"/>
            <a:ext cx="708660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ce Kell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érie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914400" y="1828800"/>
            <a:ext cx="73152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il fait chau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689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ng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mauva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oû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1066680" y="1219320"/>
            <a:ext cx="723924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fficile à regarder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op de décoration!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2"/>
          <p:cNvSpPr txBox="1"/>
          <p:nvPr/>
        </p:nvSpPr>
        <p:spPr>
          <a:xfrm>
            <a:off x="1066680" y="1066680"/>
            <a:ext cx="708660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______ des cravat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éfères-tu? (1)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2"/>
          <p:cNvSpPr txBox="1"/>
          <p:nvPr/>
        </p:nvSpPr>
        <p:spPr>
          <a:xfrm>
            <a:off x="1143000" y="1219320"/>
            <a:ext cx="685800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____ des chaussur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éfères-tu?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1523880" y="1371600"/>
            <a:ext cx="655344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__________des pantal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éfèrent-elles? (1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____ rob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imes-tu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1066680" y="1219320"/>
            <a:ext cx="723924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ls gile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imes-tu mieux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_______-là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w do you fi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pair of short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990720" y="2590920"/>
            <a:ext cx="68580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une fê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523880" y="2819520"/>
            <a:ext cx="59436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n’t you like th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nda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>
            <a:off x="1066680" y="1219320"/>
            <a:ext cx="708660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es it please you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mini-skir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1219320" y="1143000"/>
            <a:ext cx="670536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do you think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se boot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2"/>
          <p:cNvSpPr txBox="1"/>
          <p:nvPr/>
        </p:nvSpPr>
        <p:spPr>
          <a:xfrm>
            <a:off x="990720" y="990720"/>
            <a:ext cx="7315200" cy="51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do you thin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m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2"/>
          <p:cNvSpPr txBox="1"/>
          <p:nvPr/>
        </p:nvSpPr>
        <p:spPr>
          <a:xfrm>
            <a:off x="1447920" y="1676520"/>
            <a:ext cx="670536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Peti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rc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914400" y="1143000"/>
            <a:ext cx="746748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des lign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rizont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u vertic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1981080" y="2362320"/>
            <a:ext cx="52578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de peti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3276720" y="3505320"/>
            <a:ext cx="23619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2"/>
          <p:cNvSpPr txBox="1"/>
          <p:nvPr/>
        </p:nvSpPr>
        <p:spPr>
          <a:xfrm>
            <a:off x="990720" y="1371600"/>
            <a:ext cx="70866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des fleurs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 exemp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2"/>
          <p:cNvSpPr txBox="1"/>
          <p:nvPr/>
        </p:nvSpPr>
        <p:spPr>
          <a:xfrm>
            <a:off x="1066680" y="1143000"/>
            <a:ext cx="723924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l’intersection des  carreaux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des lignes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’est l’hérita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un pays celtiq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914400" y="1066680"/>
            <a:ext cx="739152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patte d’ephs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 sandales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cheveux long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752480" y="2819520"/>
            <a:ext cx="52578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tiss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1066680" y="990720"/>
            <a:ext cx="708660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cheveux à la Mohawk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débardeur et un jean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blouson en cui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990720" y="990720"/>
            <a:ext cx="70866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short long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tee-shirt et une chemise écossaise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e casquette à l’env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1295280" y="1219320"/>
            <a:ext cx="678204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costume, une cravate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u un pull sur les épau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2"/>
          <p:cNvSpPr txBox="1"/>
          <p:nvPr/>
        </p:nvSpPr>
        <p:spPr>
          <a:xfrm>
            <a:off x="838080" y="1066680"/>
            <a:ext cx="754380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sty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P. Did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685800" y="1066680"/>
            <a:ext cx="777240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find 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eat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I think it’s great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t pleas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 a lot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2"/>
          <p:cNvSpPr txBox="1"/>
          <p:nvPr/>
        </p:nvSpPr>
        <p:spPr>
          <a:xfrm>
            <a:off x="990720" y="1143000"/>
            <a:ext cx="723888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look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ally stupid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2"/>
          <p:cNvSpPr txBox="1"/>
          <p:nvPr/>
        </p:nvSpPr>
        <p:spPr>
          <a:xfrm>
            <a:off x="1295280" y="1828800"/>
            <a:ext cx="632484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lik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type of boot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2"/>
          <p:cNvSpPr txBox="1"/>
          <p:nvPr/>
        </p:nvSpPr>
        <p:spPr>
          <a:xfrm>
            <a:off x="1066680" y="1219320"/>
            <a:ext cx="708660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find th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y look old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1295280" y="3962520"/>
            <a:ext cx="6477120" cy="21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Traduction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l fait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roid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ux pied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ccessoir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l fai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ud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êt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772400" y="38088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issu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4">
            <a:hlinkClick r:id="rId3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 like th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olka- dot one.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(dress)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01" name="Picture 6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4320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2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’aime cell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À pois.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600200" y="3124080"/>
            <a:ext cx="6019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r les mai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Phyllis</cp:lastModifiedBy>
  <dcterms:modified xsi:type="dcterms:W3CDTF">2014-02-08T15:48:29Z</dcterms:modified>
  <cp:revision>59</cp:revision>
  <dc:subject/>
  <dc:title>No Slide Title</dc:title>
</cp:coreProperties>
</file>